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F07-75AF-4A79-B385-173A294F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45C-121C-49A6-88EC-48ABE765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430-D058-4DBB-B89A-1BC0BC06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C2D-4220-4C8A-B043-3BB48D7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340-5BD3-4A6F-AE90-D2E4F57B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8C7-F4A0-423A-8A0D-2865816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B80-5869-4EB1-A19A-C5C6788C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B80-C623-4F8B-8C76-B933B28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ED8-18D3-45EA-9926-EF780799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1A3-21A4-4300-9571-1D830F3D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730-6A31-4635-A43E-CE3105B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838-2273-4173-92BD-E8FF692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2DD-6584-4075-8242-9FD00695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images.google.es/imgres?imgurl=http://www.colblindor.com/wp-content/images/peacock-eye.JPG&amp;imgrefurl=http://www.colblindor.com/2007/06/13/colorful-peacock/&amp;usg=__PFq06O8WSS2o2h47G1ukzUBFnpc=&amp;h=360&amp;w=480&amp;sz=91&amp;hl=es&amp;start=10&amp;tbnid=KYuzM_-RpJnAsM:&amp;tbnh=97&amp;tbnw=129&amp;prev=/images%3Fq%3Dpeacock%26gbv%3D2%26ndsp%3D20%26hl%3Des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0"/>
            <a:ext cx="6048360" cy="645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ts 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imals' bo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352440"/>
            <a:ext cx="6200640" cy="4491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05800" y="5300640"/>
            <a:ext cx="12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996633"/>
                </a:solidFill>
                <a:latin typeface="Arial"/>
              </a:rPr>
              <a:t>tai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3171960" cy="4762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4520" y="544500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a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65800" y="501336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la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078000" cy="396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772080" cy="3771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3440" y="4581360"/>
            <a:ext cx="153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9080" y="3846600"/>
            <a:ext cx="107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f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4160" y="6156360"/>
            <a:ext cx="41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acock’s fe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4005360"/>
            <a:ext cx="281304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333680" cy="476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405440" y="551664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 has got a monkey on h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7600" y="5300640"/>
            <a:ext cx="21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Arial"/>
              </a:rPr>
              <a:t>shoul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5218200" cy="3470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200" y="551664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e had a small accident, and her ….                      … h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2360" y="530064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kn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114800" cy="529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8560" y="57006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als have got fou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7240" y="558972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00"/>
                </a:solidFill>
                <a:latin typeface="Arial"/>
              </a:rPr>
              <a:t>flipp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4048200" cy="343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49640" y="4518000"/>
            <a:ext cx="197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elb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5400" spc="-1" strike="noStrike">
                <a:solidFill>
                  <a:srgbClr val="333399"/>
                </a:solidFill>
                <a:latin typeface="Arial"/>
              </a:rPr>
              <a:t>What are they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414324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1066680"/>
            <a:ext cx="65534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624720" cy="503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81440" y="566100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70581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80960" y="781200"/>
            <a:ext cx="638208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70581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0120" y="781200"/>
            <a:ext cx="7943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155600"/>
            <a:ext cx="60487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781200"/>
            <a:ext cx="70581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291456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92360" y="404640"/>
            <a:ext cx="3888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3300"/>
                </a:solidFill>
                <a:latin typeface="Arial"/>
              </a:rPr>
              <a:t>And now…</a:t>
            </a:r>
            <a:br>
              <a:rPr sz="7200"/>
            </a:br>
            <a:r>
              <a:rPr b="0" lang="es-ES" sz="7200" spc="-1" strike="noStrike">
                <a:solidFill>
                  <a:srgbClr val="ff3300"/>
                </a:solidFill>
                <a:latin typeface="Arial"/>
              </a:rPr>
              <a:t>mo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90600" y="933480"/>
            <a:ext cx="4762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8642160" cy="47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5476680" cy="41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4160" y="508464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b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884160"/>
            <a:ext cx="5905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509760"/>
            <a:ext cx="78483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52520" y="0"/>
            <a:ext cx="488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928800"/>
            <a:ext cx="80661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69584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94360" y="466236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dumbo fre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216480"/>
            <a:ext cx="54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umbo has got very bi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2720" y="62164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Arial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200424711-001, Gavriel Jecan /Photographer's Choice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414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7800" y="260280"/>
            <a:ext cx="641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iraffes have got a lon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6160" y="5516640"/>
            <a:ext cx="195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ff3300"/>
                </a:solidFill>
                <a:latin typeface="Arial"/>
              </a:rPr>
              <a:t>ne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040360" cy="45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7080" y="476280"/>
            <a:ext cx="36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and a big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7800" y="476280"/>
            <a:ext cx="251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3300"/>
                </a:solidFill>
                <a:latin typeface="Arial"/>
              </a:rPr>
              <a:t>tong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341928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9800" y="333360"/>
            <a:ext cx="821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This baboon is showing 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1080" y="14842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3300"/>
                </a:solidFill>
                <a:latin typeface="Arial"/>
              </a:rPr>
              <a:t>tee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5084640"/>
            <a:ext cx="618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keys have got  five …                          …. in their fee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3080" y="50846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4244760" cy="447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22560" y="587700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five …                  …  in their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1800" y="5877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fi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49:30Z</dcterms:created>
  <dc:creator>Profesor</dc:creator>
  <dc:description/>
  <dc:language>en-US</dc:language>
  <cp:lastModifiedBy>mcc</cp:lastModifiedBy>
  <dcterms:modified xsi:type="dcterms:W3CDTF">2011-03-10T10:40:43Z</dcterms:modified>
  <cp:revision>8</cp:revision>
  <dc:subject/>
  <dc:title>Diapositiva 1</dc:title>
</cp:coreProperties>
</file>